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179-2BE4-4E6B-A100-B9D314D9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8A6-1003-49A6-BA56-1A5D8B81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D43-501D-4E5A-8D83-3DEC89F6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A866-52FC-45A0-B789-A56A16D2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F86-5180-4A17-AD0C-E1A90802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208-0272-4586-B2EB-5C53F5B7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785-54B0-47C0-8295-12F2ACBD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734-D066-47D1-AAC3-8117F6E2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1A4-2D15-4D4C-A42C-848AA956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C4CC-917C-4A3E-AD30-45E5E450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517-56DF-4F45-925B-D4524A43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6EA-1FE2-4ED2-A4A9-C6E9B8A0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EA3A-34AA-4FAF-AA66-1A3C54F0892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3860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شائعة الاستخدا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خام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7AE-E341-42ED-B21A-CB4411E8812E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973920" y="1916280"/>
            <a:ext cx="358920" cy="1728720"/>
          </a:xfrm>
          <a:prstGeom prst="upDownArrow">
            <a:avLst>
              <a:gd name="adj1" fmla="val 50000"/>
              <a:gd name="adj2" fmla="val 95883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227664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6920" y="3679920"/>
            <a:ext cx="309744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3139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– توزيعات الأسهم الممتا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توسط المرجح لعدد الاسهم العا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88000" y="3822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74880" y="4076640"/>
            <a:ext cx="338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67280" y="192564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0DC-BB85-4DAE-8DB9-B7EDC6E0000C}" type="slidenum">
              <a:t>10</a:t>
            </a:fld>
          </a:p>
        </p:txBody>
      </p:sp>
    </p:spTree>
  </p:cSld>
  <p:transition>
    <p:random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صافي الربح إلى الفوائ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 قبل الفوائد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وائد المستحق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مجموع الأصو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BFF-95FE-45EC-8FC1-75DA39E22B77}" type="slidenum">
              <a:t>11</a:t>
            </a:fld>
          </a:p>
        </p:txBody>
      </p:sp>
    </p:spTree>
  </p:cSld>
  <p:transition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مجموع الخصوم إلى    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خصوم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06920" y="4832280"/>
            <a:ext cx="331308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خصوم طويلة الأجل إلى    الخصوم طويلة الأجل مضافاً إليها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طويلة الأج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خصوم طويلة الأجل + حقوق الملك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سداد الديون طويلة الأج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520-42F6-4390-B3E5-043408FA3768}" type="slidenum">
              <a:t>12</a:t>
            </a:fld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84280" y="1838520"/>
            <a:ext cx="17762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38840" y="1838520"/>
            <a:ext cx="1745640" cy="82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 fontScale="92000"/>
          </a:bodyPr>
          <a:p>
            <a:pPr marL="315360" indent="-31536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 (سداد الالتزامات قصير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3260880"/>
            <a:ext cx="1847880" cy="314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257640"/>
            <a:ext cx="2016000" cy="3124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المبيع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إجمالي الأ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ائد ع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r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بحية السهم العاد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8360" y="1793880"/>
            <a:ext cx="1764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قدرة على الوفاء بالديون (طويلة الأجل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68840" y="3260880"/>
            <a:ext cx="1847880" cy="3146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الى مجموع الاص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ديون إلى حقوق الملك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فائد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تغطية الاعباء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692280"/>
            <a:ext cx="784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99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نسب المالية الرئي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2708280"/>
            <a:ext cx="142920" cy="433440"/>
          </a:xfrm>
          <a:prstGeom prst="downArrow">
            <a:avLst>
              <a:gd name="adj1" fmla="val 50000"/>
              <a:gd name="adj2" fmla="val 758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1800" y="27687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279720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27280" y="1811160"/>
            <a:ext cx="1763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2781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79760" y="3259080"/>
            <a:ext cx="1847880" cy="3146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ثابت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 rtl="1">
              <a:spcBef>
                <a:spcPts val="4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91320" y="6453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18252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DDE-6DA4-4DA0-AD91-719EAB890E16}" type="slidenum">
              <a:t>2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02000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تدا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547280" y="1773360"/>
            <a:ext cx="237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سري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-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262160" y="515772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0A8-FA7A-4B2A-A3C4-C04FE2E72DED}" type="slidenum">
              <a:t>3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899320" y="1477800"/>
            <a:ext cx="2676240" cy="564840"/>
          </a:xfrm>
          <a:prstGeom prst="rect">
            <a:avLst/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ة السيولة النق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84360" y="90756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80000"/>
              </a:lnSpc>
              <a:spcBef>
                <a:spcPts val="201"/>
              </a:spcBef>
              <a:buNone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قدية في الصندوق والبنوك + استثمارات في اوراق ما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06520" y="198900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صول المتداولة – الخصوم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04000" y="3043080"/>
            <a:ext cx="2700360" cy="77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سيو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1018-39FD-4C88-BA1C-604C4911F733}" type="slidenum">
              <a:t>4</a:t>
            </a:fld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093080" y="2133720"/>
            <a:ext cx="358560" cy="2663640"/>
          </a:xfrm>
          <a:prstGeom prst="upDownArrow">
            <a:avLst>
              <a:gd name="adj1" fmla="val 50000"/>
              <a:gd name="adj2" fmla="val 147886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69080" y="1447920"/>
            <a:ext cx="273672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436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صافي المبيعات الآج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4065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05440" y="159084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9080" y="4832280"/>
            <a:ext cx="26636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حص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دين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05440" y="4975200"/>
            <a:ext cx="595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7744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A60-5CE5-4442-9166-95C3F7CF873F}" type="slidenum">
              <a:t>5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1447920"/>
            <a:ext cx="273708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907920"/>
            <a:ext cx="403884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كلفة البضاعة المباع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صيد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86920" y="191628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6108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24360" y="4832280"/>
            <a:ext cx="280836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فترة التخز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4292640"/>
            <a:ext cx="403884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مخزو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186920" y="5157720"/>
            <a:ext cx="280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A1F-3B89-4B25-920C-69013FBF93CC}" type="slidenum">
              <a:t>6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الأصول المتداو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جمالي الأصول المتداو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20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58920" y="1916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دوران رأس المال العا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رأس المال العام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258920" y="51832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كفاء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FB2B-729F-4E0D-9E89-1D8B9D1D7739}" type="slidenum">
              <a:t>7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المبي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إجمالي الأصول (إجمالي الاستثما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إجمالي الأصو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426-6FAC-4C28-A238-D70EA8A87C86}" type="slidenum">
              <a:t>8</a:t>
            </a:fld>
          </a:p>
        </p:txBody>
      </p:sp>
    </p:spTree>
  </p:cSld>
  <p:transition>
    <p:random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e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973920" y="2133720"/>
            <a:ext cx="358920" cy="2663640"/>
          </a:xfrm>
          <a:prstGeom prst="upDownArrow">
            <a:avLst>
              <a:gd name="adj1" fmla="val 50000"/>
              <a:gd name="adj2" fmla="val 147738"/>
            </a:avLst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447920"/>
            <a:ext cx="3024360" cy="625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من النشاط الرئيس إلى صافي المبيع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907920"/>
            <a:ext cx="403848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 rtl="1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دخل من العمليات الرئيس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مبيعات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3429000"/>
            <a:ext cx="8713800" cy="0"/>
          </a:xfrm>
          <a:prstGeom prst="line">
            <a:avLst/>
          </a:prstGeom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258920" y="183996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159084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06920" y="4832280"/>
            <a:ext cx="3097440" cy="625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عدل العائد على </a:t>
            </a:r>
            <a:br>
              <a:rPr sz="1800"/>
            </a:b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4292640"/>
            <a:ext cx="403848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صافي الرب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توسط حقوق المساهمين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88000" y="4975200"/>
            <a:ext cx="59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258920" y="5195880"/>
            <a:ext cx="2806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3078000"/>
            <a:ext cx="2665440" cy="67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نسب الربح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260280"/>
            <a:ext cx="39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خامس: </a:t>
            </a: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Andalus"/>
              </a:rPr>
              <a:t>النسب المالية شائعة الاستخدا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D4C-88C5-4C12-A1FE-68122B58FC67}" type="slidenum">
              <a:t>9</a:t>
            </a:fld>
          </a:p>
        </p:txBody>
      </p:sp>
    </p:spTree>
  </p:cSld>
  <p:transition>
    <p:random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9T08:19:27Z</dcterms:created>
  <dc:creator>**</dc:creator>
  <dc:description/>
  <dc:language>en-US</dc:language>
  <cp:lastModifiedBy>****</cp:lastModifiedBy>
  <dcterms:modified xsi:type="dcterms:W3CDTF">2003-12-07T23:54:56Z</dcterms:modified>
  <cp:revision>23</cp:revision>
  <dc:subject/>
  <dc:title>المؤشرات المالية</dc:title>
</cp:coreProperties>
</file>